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256A-A983-4392-A414-7BD3EE680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8117-61A6-4A6A-9B6B-4EFA6687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F8C1B4-0ADC-4581-A111-BADC7B48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7236C2-17E3-4D7A-934B-88E36F84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0BF541-9BE0-4835-8C6D-7250F404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52ADD7-8A63-426A-A468-A864D969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F177DD-E74A-4BBF-8476-7D3DC227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E0CB4A-96FC-4F56-B07E-EA50E568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FCA9B1-57D7-4BEB-A9A3-59740971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714CED-A7F1-42C3-8004-0DCA89897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F8006C-32A5-431D-B689-ADD5BB082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C5D423-D4E8-448C-949E-A3973A51F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0D84-EEB7-4BA1-BE68-31227CE8E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2749DE-DE76-4DED-B164-A66B1419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B34FEF-D607-49E5-9E1C-0DBD1B47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663B45-DEA0-475A-AD67-715FACD5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5C0F4E-C686-43A8-821F-5953F2F7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407000-C907-454C-93EC-7A14FBCE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075EAE-55DE-4171-829C-965DFDC6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D1CDBD-BE8C-40F1-8E21-FADE8C02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0E9902-0FF3-4D1E-B44D-C4A77755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B67335-0992-4254-B611-CDCCF861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CC281A-C44E-4A98-9981-1DBB5D4FF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C395-E04E-4E4E-BCAA-9A0957A91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9C01C8-BDFC-431B-A062-5934F9869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A94390-18FB-4C7A-AE5F-D467BF1DE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B9E67F-5B17-445F-B297-97587479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F0ED5-36F1-42DF-9BF5-0F60ED5F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4DF872-049B-43EF-AF4D-B3D4BE77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1C5BE2-B77D-4771-AC53-8AB951DA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D656D8-7C7B-4FBC-93E9-CB2C207F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6D249-E2BA-4185-BD58-F3ED1932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F041B-36AD-4304-88B8-01D4DE30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0678C-3614-4408-80CB-94D6424C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4AF1-C89A-4459-B20C-E77F27880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7AB56-0626-4E87-B1B3-AF5DCF09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C4FC9-A0C6-4808-ABE5-532FAECC7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5AA14-BF14-4732-804A-163BC1668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EAD6B5-1E31-402A-A255-9BC80C547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E4CAAB-DE0E-4EAF-B009-BE413426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35C4B6-7C7F-45CB-B490-05FBC91C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8EA721-FDDC-41F9-8E5F-331DFF94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2AFD46-9A92-4678-BCB7-AC15ADD0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8A1E75-220C-4784-A1ED-35965E3C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75B9FC-D5B9-42EC-92F6-7FEEF17A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A7BD7-7FB1-436C-A178-780F7B0E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F6FA91-7BCC-4BCF-9263-1700C520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B02C94-92C8-4C7D-9CB9-047755E9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01750F-5A13-4A77-B785-6A696BE4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651D7B-6340-4F0B-94CD-DBA495118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730660-47D4-4F5E-861D-FD247E8F2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40C2E6-9A9B-4649-8D66-7986F1E66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9A94E9-C61E-4052-995A-2E8FD52D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19CD44-7053-42D6-BFD3-8647C5BA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0B9B95-B2FF-47A9-83F0-0ABE6AD8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64DBF2-29D9-4257-AA7F-E0B1C7A7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69AB-66E6-4EDF-AF15-D1A30E8B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4F36C7-A9E6-431D-A778-20E04F5B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746064-F212-4189-B438-01D50980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F9B84A-304D-4B28-AA91-9AFDE217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2A18D7-01B3-4141-ABC4-F084590C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932D16-A079-4685-890F-CD68A9FC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770846-ACEB-42F7-8EE7-239D03A66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583BE1-0591-4511-AC0A-BF4C7411B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60918C-FBD3-4D97-B760-BA27F21A0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42DFAE-1F9F-4F9D-B3B6-2FB00CC7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5017B0-2BD4-40D9-8689-2B3D7D6A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84E1-CBE5-4191-B767-0CCCEFF0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D28ABA-586E-4478-9846-07F7343F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266443-29CE-4E4C-A976-2A643E96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7D943E-B243-4AC5-AE30-A28A3D7A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6AD27B-D393-45C8-8EA2-654A3EB9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1A7D8B-EEAC-4F2D-BA3C-00DC14B6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CF5A53-E6DE-4405-86C9-746016A5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AFA40F-BD07-4717-B2B7-C9858BCC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344DD8-058B-4CF9-B585-DBF30547A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B07353-D77F-4CDF-B8A8-D70327918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E3F4B9-090A-4188-BDE8-42F762420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DFD1-7932-4CC5-B5E1-E3BB4193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B7B915-853C-4DF2-B28C-0AE19048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1A49E4-F8F8-46BD-A896-470A0789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488109-B29F-4F7C-9735-1A3AA138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227F2F-7D04-4E6A-B086-A98A5C0D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C56160-02AD-4929-9A4C-7E9A9282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6127C8-0A91-4F18-9329-5863D808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745B27-581F-4413-8C3E-12D7E86F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21B075-125F-43A3-8D21-5E176E34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20E64B-63BF-4AE4-B4C7-1B926509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D8B3A0-EC74-44D3-A7E0-3E09DAFA6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710D-0DED-4EE3-AF34-83E38EA6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08BA75-238B-4233-9D17-EC447AAAF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7D730E-6575-4550-8384-760356C29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A64C36-A8BD-47EB-951D-E1590744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8EE3FD-0159-4AA8-8B1A-DB613067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A15BAF-DE1B-47FA-818F-AF837F08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27B829-DD87-4D7F-8144-F296C102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BECF24-D679-4B68-9CEB-7D77B6A3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011C61-35AC-4261-BCA4-AE9DBE1F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93DE3C-2D32-4CFF-BCB4-F040F967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B7AB7E-6575-4631-A725-7BAE1A7D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4991-CBBA-47FD-88B6-FF3309C7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866EB7-A0A0-4164-A9AA-C6B5E7DB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339C02-796F-491C-A9FE-F522DC269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2E59C9-E9BA-4F41-BFB5-9AD76FE5E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DAB022-65DE-472C-B207-F38E29E2D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AC0DDD-D4EA-4C26-8B6C-A27A5C97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C12DDD-F236-4A4C-B8F7-9FF01257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20F971-426C-4136-84E2-0009767A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1CF1E6-B1D4-4E66-B1A0-A9B28169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D078B5-87C1-4F01-8021-395C1607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681C04-BF35-4591-814D-A47AF0E2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9196-6722-4EB6-A42D-A91D71F6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272B-AA56-462B-AE19-2CD94CAF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998D7E-9F46-41AE-A8DF-418C18DB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D7D103-84C6-441B-B662-A5AC59FA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4CE0D2-BBE4-420F-A770-3A88748F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71AAD3-6769-4618-9B90-1CEE1C2EF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D8AED2-32AA-4977-986E-72623B3F1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3335EE-68D3-47F1-BC89-F208AD097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E2B6EE-1083-4F7C-90D0-0B7B00F9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34362B-15BA-46B7-96D3-8B2BD43C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2A58CD-B198-4F31-8022-CD548F88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BA6B3F-6002-435F-B6BD-8BA9018E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532D-5DF0-4683-B974-1974BF55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F34D6C-36BF-473B-AD94-8E82F6A0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F6EA87-F922-4497-8D7E-7D4964F2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35F838-0A4E-4206-ADF1-9C16C986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60E717-142A-49BF-B042-4D2298B1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1DA06D-81E5-46EE-8127-99C3E8B2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D5EC7A-D91E-4540-827D-65BABA538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EA5688-2B5B-4748-9420-BAAB4086D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8AF9FC-F8D2-4618-B9F6-47690A67F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5F95E2-26BE-4734-A9A9-34C43492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310948-8250-4992-A53E-BA37CAA4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172A-D721-4DD5-8A5B-C75BAA45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765AD9-372E-4781-B145-717EA981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FA1E73-9321-4EF0-9536-F587B08E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293F99-DCDD-471B-98C6-FC222648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1482A6-CFFB-4E32-8241-A8B756B9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BBDF4B-47FE-4969-8BA4-6E4F9F7C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1C060E-D261-4237-A53F-D835B5BB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D786CE-547D-47BD-A0BB-54998C95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B84A87-28C3-4C02-AE61-5DA65B084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6ABD61-88F5-4279-9312-B5E34EBF6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6C9334-C03C-47CA-BA9F-DDB12E521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0F77-DE3F-43E1-9F5F-E05E35FD7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F37FEE-7689-45B5-9666-6FC84C7B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A8AC56-1EA1-42A2-A24F-B2B5217D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C5A851-FA56-4AED-A2B7-F145E668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399BC4-D658-4B90-8902-A3545AFB6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00ADDB-9E49-40A4-A3C6-5B2E70B5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1A9C25-D926-4E7C-A774-ACD00E8F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BA42B6-5D58-4541-B10A-4E6835D5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89E5DC-73B9-4935-BA1E-5526C5BA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9BA9ED-2E3B-4920-A560-4AC5CAD9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6739A3-AB15-43E7-AE7B-F1846ED8A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A538-CE0A-4FCD-8D8C-A8466CD5E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D76670-71EB-4A5E-B7BD-2CFCEB289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EE090D-B58F-44CE-9C92-6074BFD2A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C29904-AB5B-485F-92AE-09A7103A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E0AF69-B793-4DFD-8582-769A2866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282857-686E-4720-8CC2-BBE84D92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B16F92-153A-4F77-B3EC-CF5597D5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EF4FC6-8257-4694-B90A-EA161E0D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251948-A348-4F9B-8779-E0999BC4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1489B8-9721-4E18-B3D9-AC50A1DE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12F5FC-6677-492B-9784-B88F9FC3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BDA5C-7474-4B06-BF40-83F7F9951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118743-4AEA-4B38-BCD1-F11E5071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9E8014-B18C-47C0-A0AC-63328A4D0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52A487-74B4-423D-A189-0F02D7B40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F8FAF3-CAAD-4610-835F-7DA4CA512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96E26C-19B5-4018-A82A-3504F1DC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B7F5AF-7AAE-4B2A-845E-11329116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B4A653-122C-4E06-B697-1BD3D09D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5555B2-D2EC-4BB0-B215-B4731000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2A6B57-7C10-49A0-B890-C5806B1F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0B3FAD-843C-4349-8E12-6B3137C6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5E9EC-CEC7-41C0-A6A1-021B2CE9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24DFA1-3850-4C55-9E04-3AE2D884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3D216F-3992-49D6-9168-74FB408C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5F3E13-04A4-493F-A7C9-A4873F78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5FEB0E-ED3A-4593-A1BB-7EB83845B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B90B9B-518A-4372-AE81-32B3F9B57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22247D-FE76-48BA-B5DF-D50071427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DC2B20-FD12-40B2-818C-1C92FD53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26E712-E946-4B00-8806-A329E995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0D2D21-B30B-4BE2-9C79-96CE8B70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0C2463-82F8-4B05-9C7F-6224F85E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A5EC8-0B3E-4FC1-975B-86F670F2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4470B2-56F2-4A4A-A5CB-982DBC07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38A183-AF27-4147-9160-25E1CFC7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C662D7-1B55-4DA5-B1A8-5301EE43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1CD3C0-DE16-425E-8F5F-BE0627BE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47BF0E-8967-4F36-B947-64CC3C81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132CF9-0097-431D-A0A6-E200820FA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A159BC-20E3-418C-99FB-AA67D7BAF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9B284-F4E3-40E1-A975-CBC260CE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8A11F-FF79-4A6B-980B-E063AA8B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76C2-B3DE-441F-A091-AC6CEC84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9E517-5866-4600-8C4C-EA2B2AAC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8C277-C787-4152-87D6-33333CAB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6D068-3BEB-480B-9D20-4FA6F4C8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92B88-782D-40FA-90DC-B6E29D13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9E5CF-77FF-4FFB-9BC2-A129D520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8FBE6-80DD-4CBE-B1FA-8FF5D7A18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48DB8-1B61-40CC-A890-F51F1B592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894F5-9A1A-4368-8563-2AD4DC5AC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B2EFE-AD7C-4D03-A5FD-96188D08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2E0B2-64F9-41C2-B5EC-FBEBCA644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5584-D619-4F84-A058-798934F3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F6E68-B454-4A5C-A706-A50F3870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8EDB0-D28D-4265-9A95-1C50F740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A8651-1098-41BA-A662-9F9159AF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E6F72-9FF1-403D-B714-791E9629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C6122-F5F3-4E6C-8112-61842EAB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561A2-8865-49D1-B7C7-4391688B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86A00-955E-49CF-BC7D-88092EDE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353A2-AC5C-4F7E-B1D1-59AED9C70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EB301-5988-4D33-9604-D71E463A8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2AF83-F9AC-4E33-A1B7-A86B903DD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6E29-0D82-4124-B1AD-5213A434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E6AB1-0002-4D49-8D45-08C062D2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8EE0C-7DE5-4815-8E7F-7C3464B5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D1D21-3CE8-449E-AC56-E3684503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4CDEA-CC68-4FD7-8114-08F532A3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699C8-422D-43D8-92E2-DF74718C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FC0D3-7008-4C19-AF07-85683565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B930C-35A4-426A-8D6B-18474042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CCC00-B1D0-48D5-BA44-3114A46D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09AEF-CCAD-48ED-90CC-AE81819B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C40A3-ECD2-448D-9C9A-10852AD96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D212-E427-47F6-89A8-4A726049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CD109-1318-4BF9-B586-2B5BF3624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B077A-343F-459F-9E97-DF66E4AFC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9197E-7F64-4A87-B0FA-2A05E620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86743-B660-4680-ADE0-C35D4505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A14A6-C36C-4839-A1EB-028304E2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C4CF7-9E1C-400A-8343-5B33BCA5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03CDB-6F35-49FC-95F2-FD2FC934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B584F-6147-4A7D-B8FB-7ADF6AD5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37C5B-A31B-4199-8E10-28CD6EBD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C9F66-35F6-41DA-9405-607BB602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FABB-5359-469F-9BDB-A46FC0E5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67F2E-5CB3-43A1-B795-131A63B3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2D6B6-B0E4-4500-ADF8-BCD0F0460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9E646-7651-4DA8-960F-A4FFB7435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39D73-CC05-47A0-A73F-E35C0CA06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85E33-1192-44F1-85D0-AE1AC8D1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73B8F-DF1D-440A-A6B4-AB93BF4F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F56BB-C3BD-4821-8D94-617F85DD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79CD3-273F-48CB-A059-E4FFD58E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5D8C9-C54C-4D11-981E-CE41F556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CD686-4510-4D2B-BAFF-A556F22D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8785-CB5B-4B8F-97CC-EEE9DAA1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D92E8-8874-4954-AB96-79EB9E9E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19FE9-A695-4DCC-80EC-E5568C0F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8432F-CC70-4CC9-8AC3-FEDD03F0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0C366-760A-45D2-A404-441A8BCD5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74591-3EFB-44F1-A8DA-475049665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07540-20E2-490B-81DB-9E83482A9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86D28-079D-4A2F-B5ED-F5BB8A17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6208E-8004-46B4-86F8-576087C0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5AEFD-EF2E-405E-9736-5CAC2B4C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807BB-52E5-40BF-BA83-689419B9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1505-F8A8-4FC6-BFFE-804DE875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179F7-E176-473B-AF7C-10C228B0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0B157-0C37-4843-B496-FD1F7C2B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275C7-D1DE-4FBD-B14D-0FBA5F45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603F0-1BE3-4377-AA25-B4DCF818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FD80F-8259-422F-86A9-50FD6D58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E2BCF-5253-4066-A41E-212CB4B10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AC965-F369-4AD1-8BD9-FA1CF3659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1FF852-EDB0-4B10-8438-A013E5543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8A35AE-7FB9-4765-8CF0-08620F26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590A2C-81D6-476B-8BDB-C4547C35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017D-4CBB-4CA0-9FF1-427AD45E38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BEC2-8232-4692-896F-8A05D00A85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9AAA-4A20-4316-8EDA-20AACD577A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D943-EEC9-473D-A777-768E8E6120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BEA2-6014-4A19-BB31-926A6FB1E2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BC26-1652-43D1-89F0-F8C09594CF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1486-33EF-4A91-8A5B-D8D003607E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797E-EA6D-41BB-AD88-901A62C8FF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2326-8C3B-4C67-8DE1-9E7061F19F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A10D-4F31-4CA0-89DE-9D73DD947E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F741-A71E-43B6-8773-88C08D73A9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709E-06DF-40EE-8A98-96E9C78799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0B7E-352D-4EB5-AE37-515AB105AB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9379-9D55-42E4-B74F-6C6BD7953C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77D2-F33C-4373-80BB-7DEE3294DE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65F6-5F6C-4103-A0E7-C257ABFFC1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57E7-F4B7-41F1-8AF1-581B51F0E4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4357-78A1-489D-9C00-9687865DB0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E46A-52D3-464E-BA19-4A5531DA39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2EE0-264E-44C1-A4E7-69E80F3A09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98AA-1F2B-4E9B-AA7D-623F4CDA2B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C4F9-3EE0-4D2E-ACD2-1B9074C1961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119B-D256-4711-8D4F-2A69EAF5CD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5EDC-65FD-4C50-840A-C38A85D748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BAB7-13E9-40B8-B3DE-4BDCD25160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628A-7A92-4802-ADA6-AF35E371DB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8113-556E-4FE9-91BA-D06A7292F9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408F-366D-4253-A19F-33DD937E34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C757-BDB4-488B-99B9-572F947EC2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2E4F-9AEE-48E4-948C-360F9C3D4F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0C6D-7385-4166-8D5F-CD437ECA10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392A-3929-40F5-81BE-494F1EE8C7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AC3F-256C-404A-A7D4-63457DE331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3559-43F2-4E2C-9352-738376E3545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759B-C884-4E96-B539-BAD3A1B693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74B6-36A1-461D-A16D-707970F652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6550-FE58-4115-98C9-4DB5B8CC61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F14E-3E08-4EB8-A510-6DB10AEB58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3A30-CCFC-4380-8F2F-B33DF1E799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AA96-40CD-4E7C-9284-6A17340A90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6E1C-A502-4081-98A1-8107072764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8302-4CA9-4395-B45C-1F48490E56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225360" y="3195720"/>
            <a:ext cx="869328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图片 1" descr=""/>
          <p:cNvPicPr/>
          <p:nvPr/>
        </p:nvPicPr>
        <p:blipFill>
          <a:blip r:embed="rId1"/>
          <a:stretch/>
        </p:blipFill>
        <p:spPr>
          <a:xfrm>
            <a:off x="623880" y="1947960"/>
            <a:ext cx="7896240" cy="29620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2"/>
          <a:stretch/>
        </p:blipFill>
        <p:spPr>
          <a:xfrm>
            <a:off x="1187280" y="4149720"/>
            <a:ext cx="6769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1004760" y="120600"/>
            <a:ext cx="7615440" cy="6615000"/>
          </a:xfrm>
          <a:prstGeom prst="rect">
            <a:avLst/>
          </a:prstGeom>
          <a:ln w="0">
            <a:noFill/>
          </a:ln>
        </p:spPr>
      </p:pic>
      <p:pic>
        <p:nvPicPr>
          <p:cNvPr id="1007" name="图片 6146" descr=""/>
          <p:cNvPicPr/>
          <p:nvPr/>
        </p:nvPicPr>
        <p:blipFill>
          <a:blip r:embed="rId2"/>
          <a:stretch/>
        </p:blipFill>
        <p:spPr>
          <a:xfrm>
            <a:off x="3664080" y="1866960"/>
            <a:ext cx="465300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8" name="图片 1" descr=""/>
          <p:cNvPicPr/>
          <p:nvPr/>
        </p:nvPicPr>
        <p:blipFill>
          <a:blip r:embed="rId1"/>
          <a:stretch/>
        </p:blipFill>
        <p:spPr>
          <a:xfrm>
            <a:off x="609480" y="1614600"/>
            <a:ext cx="7925040" cy="362880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2"/>
          <a:stretch/>
        </p:blipFill>
        <p:spPr>
          <a:xfrm>
            <a:off x="2700360" y="25066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3"/>
          <a:stretch/>
        </p:blipFill>
        <p:spPr>
          <a:xfrm>
            <a:off x="3348000" y="25225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4"/>
          <a:stretch/>
        </p:blipFill>
        <p:spPr>
          <a:xfrm>
            <a:off x="6775560" y="25066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5"/>
          <a:stretch/>
        </p:blipFill>
        <p:spPr>
          <a:xfrm>
            <a:off x="7423200" y="25225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6"/>
          <a:stretch/>
        </p:blipFill>
        <p:spPr>
          <a:xfrm>
            <a:off x="2700360" y="32115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7"/>
          <a:stretch/>
        </p:blipFill>
        <p:spPr>
          <a:xfrm>
            <a:off x="3348000" y="32274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8"/>
          <a:stretch/>
        </p:blipFill>
        <p:spPr>
          <a:xfrm>
            <a:off x="6789600" y="31971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9"/>
          <a:stretch/>
        </p:blipFill>
        <p:spPr>
          <a:xfrm>
            <a:off x="7437600" y="3213000"/>
            <a:ext cx="502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7" name="图片 1" descr=""/>
          <p:cNvPicPr/>
          <p:nvPr/>
        </p:nvPicPr>
        <p:blipFill>
          <a:blip r:embed="rId1"/>
          <a:stretch/>
        </p:blipFill>
        <p:spPr>
          <a:xfrm>
            <a:off x="219240" y="412920"/>
            <a:ext cx="8705520" cy="637200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2"/>
          <a:stretch/>
        </p:blipFill>
        <p:spPr>
          <a:xfrm>
            <a:off x="2843280" y="32418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9" name="图片 8195" descr=""/>
          <p:cNvPicPr/>
          <p:nvPr/>
        </p:nvPicPr>
        <p:blipFill>
          <a:blip r:embed="rId3"/>
          <a:stretch/>
        </p:blipFill>
        <p:spPr>
          <a:xfrm>
            <a:off x="4570560" y="2670120"/>
            <a:ext cx="404784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图片 1" descr=""/>
          <p:cNvPicPr/>
          <p:nvPr/>
        </p:nvPicPr>
        <p:blipFill>
          <a:blip r:embed="rId1"/>
          <a:stretch/>
        </p:blipFill>
        <p:spPr>
          <a:xfrm>
            <a:off x="852480" y="814320"/>
            <a:ext cx="7439040" cy="5877000"/>
          </a:xfrm>
          <a:prstGeom prst="rect">
            <a:avLst/>
          </a:prstGeom>
          <a:ln w="0">
            <a:noFill/>
          </a:ln>
        </p:spPr>
      </p:pic>
      <p:pic>
        <p:nvPicPr>
          <p:cNvPr id="1021" name="图片 9218" descr=""/>
          <p:cNvPicPr/>
          <p:nvPr/>
        </p:nvPicPr>
        <p:blipFill>
          <a:blip r:embed="rId2"/>
          <a:stretch/>
        </p:blipFill>
        <p:spPr>
          <a:xfrm>
            <a:off x="1625760" y="949320"/>
            <a:ext cx="676260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3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1" descr=""/>
          <p:cNvPicPr/>
          <p:nvPr/>
        </p:nvPicPr>
        <p:blipFill>
          <a:blip r:embed="rId1"/>
          <a:stretch/>
        </p:blipFill>
        <p:spPr>
          <a:xfrm>
            <a:off x="590400" y="2066760"/>
            <a:ext cx="7963200" cy="27244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2"/>
          <a:stretch/>
        </p:blipFill>
        <p:spPr>
          <a:xfrm>
            <a:off x="1820880" y="42782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3"/>
          <a:stretch/>
        </p:blipFill>
        <p:spPr>
          <a:xfrm>
            <a:off x="2411280" y="4292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4"/>
          <a:stretch/>
        </p:blipFill>
        <p:spPr>
          <a:xfrm>
            <a:off x="4255920" y="4221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5"/>
          <a:stretch/>
        </p:blipFill>
        <p:spPr>
          <a:xfrm>
            <a:off x="4875120" y="42354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6"/>
          <a:stretch/>
        </p:blipFill>
        <p:spPr>
          <a:xfrm>
            <a:off x="6659640" y="4292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7"/>
          <a:stretch/>
        </p:blipFill>
        <p:spPr>
          <a:xfrm>
            <a:off x="7278840" y="4307040"/>
            <a:ext cx="5029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图片 1" descr=""/>
          <p:cNvPicPr/>
          <p:nvPr/>
        </p:nvPicPr>
        <p:blipFill>
          <a:blip r:embed="rId1"/>
          <a:stretch/>
        </p:blipFill>
        <p:spPr>
          <a:xfrm>
            <a:off x="542880" y="843120"/>
            <a:ext cx="8058240" cy="51717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2"/>
          <a:stretch/>
        </p:blipFill>
        <p:spPr>
          <a:xfrm>
            <a:off x="3794040" y="28670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3"/>
          <a:stretch/>
        </p:blipFill>
        <p:spPr>
          <a:xfrm>
            <a:off x="2627280" y="33274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4"/>
          <a:stretch/>
        </p:blipFill>
        <p:spPr>
          <a:xfrm>
            <a:off x="5853240" y="33148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5"/>
          <a:stretch/>
        </p:blipFill>
        <p:spPr>
          <a:xfrm>
            <a:off x="2570040" y="42069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6"/>
          <a:stretch/>
        </p:blipFill>
        <p:spPr>
          <a:xfrm>
            <a:off x="7337520" y="42782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7"/>
          <a:stretch/>
        </p:blipFill>
        <p:spPr>
          <a:xfrm>
            <a:off x="4687920" y="4653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8"/>
          <a:stretch/>
        </p:blipFill>
        <p:spPr>
          <a:xfrm>
            <a:off x="1042920" y="5445000"/>
            <a:ext cx="2016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图片 1" descr=""/>
          <p:cNvPicPr/>
          <p:nvPr/>
        </p:nvPicPr>
        <p:blipFill>
          <a:blip r:embed="rId1"/>
          <a:stretch/>
        </p:blipFill>
        <p:spPr>
          <a:xfrm>
            <a:off x="733320" y="233280"/>
            <a:ext cx="7677360" cy="6391440"/>
          </a:xfrm>
          <a:prstGeom prst="rect">
            <a:avLst/>
          </a:prstGeom>
          <a:ln w="0">
            <a:noFill/>
          </a:ln>
        </p:spPr>
      </p:pic>
      <p:pic>
        <p:nvPicPr>
          <p:cNvPr id="1038" name="图片 12290" descr=""/>
          <p:cNvPicPr/>
          <p:nvPr/>
        </p:nvPicPr>
        <p:blipFill>
          <a:blip r:embed="rId2"/>
          <a:stretch/>
        </p:blipFill>
        <p:spPr>
          <a:xfrm>
            <a:off x="1592280" y="404640"/>
            <a:ext cx="72486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6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图片 1" descr=""/>
          <p:cNvPicPr/>
          <p:nvPr/>
        </p:nvPicPr>
        <p:blipFill>
          <a:blip r:embed="rId1"/>
          <a:stretch/>
        </p:blipFill>
        <p:spPr>
          <a:xfrm>
            <a:off x="557280" y="995400"/>
            <a:ext cx="8029440" cy="486720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2"/>
          <a:stretch/>
        </p:blipFill>
        <p:spPr>
          <a:xfrm>
            <a:off x="2627280" y="3156120"/>
            <a:ext cx="5257800" cy="4474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3"/>
          <a:stretch/>
        </p:blipFill>
        <p:spPr>
          <a:xfrm>
            <a:off x="6156360" y="24782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4"/>
          <a:stretch/>
        </p:blipFill>
        <p:spPr>
          <a:xfrm>
            <a:off x="6962760" y="24782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5"/>
          <a:stretch/>
        </p:blipFill>
        <p:spPr>
          <a:xfrm>
            <a:off x="4846680" y="5300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6"/>
          <a:stretch/>
        </p:blipFill>
        <p:spPr>
          <a:xfrm>
            <a:off x="5653080" y="530064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45:39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